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3.wmf" ContentType="image/x-wmf"/>
  <Override PartName="/ppt/media/image60.wmf" ContentType="image/x-wmf"/>
  <Override PartName="/ppt/media/image95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29.wmf" ContentType="image/x-wmf"/>
  <Override PartName="/ppt/media/image94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7BB-0009-42A9-9F14-0AF99687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A7A-AB39-48B8-9BDF-CEFE70A0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F18-840C-4FAA-B9FB-9BFF9D2E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B61-4DBF-463E-834F-8F4A234F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F336-6909-4DD0-B493-CB97C8B1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CE0A-1447-40EC-8F37-AAF13DA3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9B94-5A4D-4ED6-896A-21EE50F2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0BB4-E833-49C7-8901-24A848A9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5D2F-0C54-4E2E-8752-ABD086BC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D53D-507C-49B3-9CA5-46A2F90A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8085-5B21-4A19-9A09-D19FC615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03C-4E30-44AC-AB13-2DDCCA76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287D-1EE8-4189-95F6-46536FB2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479B-8A00-4524-B65F-9EF5D24A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A2A4-F732-460E-8421-4A06E405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8B7F-2275-4D43-A816-B0C285C7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C8F2-4F10-44C3-8DDB-8F0C69D6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CC7-76AC-4BB1-A8D7-80FCF95E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3C2-6AF8-4DCB-AAE7-38EE5854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4DD-461A-44B8-B4B0-A3D20D2C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D96-C382-4B00-B6B7-6F0DB55E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86A-94FF-43E9-9F7B-223B985E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ED0-0CA7-4C7C-AB1F-C4851D40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6CB-FAE9-4633-847E-0858750C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1826-1CFD-4DFE-B796-A31FF1EE0FA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1485-8BBE-49CD-A976-6C07FD33F1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5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1.wmf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7.wmf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31436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Определители и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х свой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213000"/>
            <a:ext cx="6629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Решение линейных уравнений с помощью правила Кра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Обратные матр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Решение систем уравнений с помощью обратных матриц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755640" y="5516640"/>
          <a:ext cx="199080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516640"/>
                    <a:ext cx="19908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5"/>
          <p:cNvGraphicFramePr/>
          <p:nvPr/>
        </p:nvGraphicFramePr>
        <p:xfrm>
          <a:off x="7524720" y="44280"/>
          <a:ext cx="1101600" cy="8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720" y="44280"/>
                    <a:ext cx="110160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6"/>
          <p:cNvGraphicFramePr/>
          <p:nvPr/>
        </p:nvGraphicFramePr>
        <p:xfrm>
          <a:off x="6732720" y="5516640"/>
          <a:ext cx="1274760" cy="99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5516640"/>
                    <a:ext cx="12747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599840"/>
            <a:ext cx="8535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В качестве примера рассмотрим определитель третьего 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6"/>
          <p:cNvGraphicFramePr/>
          <p:nvPr/>
        </p:nvGraphicFramePr>
        <p:xfrm>
          <a:off x="468360" y="2639880"/>
          <a:ext cx="7775640" cy="15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39880"/>
                    <a:ext cx="7775640" cy="15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8"/>
          <p:cNvSpPr/>
          <p:nvPr/>
        </p:nvSpPr>
        <p:spPr>
          <a:xfrm>
            <a:off x="8172720" y="4843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14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 не меняется при замене в нем всех строк соответствующими (по номеру) столб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 равен нулю, если содержит нулевую строку или нулевой столбе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  равен  нулю,  если содержит две  одинаковые строки  или  два  одинаковых  столб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елитель треугольной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755640" y="2643120"/>
          <a:ext cx="3095640" cy="20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43120"/>
                    <a:ext cx="309564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7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6"/>
          <p:cNvGraphicFramePr/>
          <p:nvPr/>
        </p:nvGraphicFramePr>
        <p:xfrm>
          <a:off x="5003640" y="2643120"/>
          <a:ext cx="3456000" cy="20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643120"/>
                    <a:ext cx="345600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8"/>
          <p:cNvSpPr/>
          <p:nvPr/>
        </p:nvSpPr>
        <p:spPr>
          <a:xfrm>
            <a:off x="4141440" y="3499560"/>
            <a:ext cx="6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1116000" y="2997360"/>
            <a:ext cx="2233800" cy="1441440"/>
          </a:xfrm>
          <a:prstGeom prst="line">
            <a:avLst/>
          </a:prstGeom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5435640" y="3068640"/>
            <a:ext cx="2592360" cy="1441440"/>
          </a:xfrm>
          <a:prstGeom prst="line">
            <a:avLst/>
          </a:prstGeom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235800" y="5085720"/>
            <a:ext cx="83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вен произведению элементов главной диагон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3516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72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Определитель изменит знак на противоположный, если в  нем поменять местами любые две строки или столбца (то есть применено элементарное преобразование первого тип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472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Если строку (столбец) определителя умножить на некоторое число (то есть применено элементарное преобразование третьего типа), то определитель умножится на это числ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7. Определитель не изменится, если в нем заменить строку суммой этой строки и некоторой другой, вспомогательной, предварительно умноженной на какое-либо число (то есть применено элементарное преобразование второго тип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213920"/>
            <a:ext cx="83581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472"/>
                </a:solidFill>
                <a:latin typeface="Arial"/>
              </a:rPr>
              <a:t>8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 произведения квадратных матриц равен произведению определителей сомножителей. т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Алгебраическим дополнением элемента        матрицы        порядка        называется число, рав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Используя алгебраическое дополнение, име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Object 11"/>
          <p:cNvGraphicFramePr/>
          <p:nvPr/>
        </p:nvGraphicFramePr>
        <p:xfrm>
          <a:off x="3429000" y="2286000"/>
          <a:ext cx="214776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286000"/>
                    <a:ext cx="21477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2214720" y="3429000"/>
                <a:ext cx="502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03" name="Object 6"/>
          <p:cNvGraphicFramePr/>
          <p:nvPr/>
        </p:nvGraphicFramePr>
        <p:xfrm>
          <a:off x="6000840" y="3571920"/>
          <a:ext cx="401400" cy="4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0840" y="3571920"/>
                    <a:ext cx="4014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7"/>
          <p:cNvGraphicFramePr/>
          <p:nvPr/>
        </p:nvGraphicFramePr>
        <p:xfrm>
          <a:off x="4143240" y="3571920"/>
          <a:ext cx="482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3240" y="3571920"/>
                    <a:ext cx="4827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8"/>
          <p:cNvGraphicFramePr/>
          <p:nvPr/>
        </p:nvGraphicFramePr>
        <p:xfrm>
          <a:off x="2843280" y="4071960"/>
          <a:ext cx="580068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4071960"/>
                    <a:ext cx="58006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9"/>
          <p:cNvGraphicFramePr/>
          <p:nvPr/>
        </p:nvGraphicFramePr>
        <p:xfrm>
          <a:off x="3092400" y="5022720"/>
          <a:ext cx="1919160" cy="1078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92400" y="5022720"/>
                    <a:ext cx="191916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тная матр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0040" y="1571760"/>
            <a:ext cx="806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усть           квадратная матрица           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единичная матрица того же поряд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Объект 1"/>
          <p:cNvGraphicFramePr/>
          <p:nvPr/>
        </p:nvGraphicFramePr>
        <p:xfrm>
          <a:off x="2000160" y="1643040"/>
          <a:ext cx="806400" cy="5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1643040"/>
                    <a:ext cx="8064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5929200" y="1714680"/>
          <a:ext cx="765360" cy="4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29200" y="1714680"/>
                    <a:ext cx="7653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5"/>
          <p:cNvGraphicFramePr/>
          <p:nvPr/>
        </p:nvGraphicFramePr>
        <p:xfrm>
          <a:off x="7286760" y="1714680"/>
          <a:ext cx="70308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86760" y="1714680"/>
                    <a:ext cx="7030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Прямоугольник 7"/>
          <p:cNvSpPr/>
          <p:nvPr/>
        </p:nvSpPr>
        <p:spPr>
          <a:xfrm>
            <a:off x="500040" y="2857680"/>
            <a:ext cx="812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Матрица           называется </a:t>
            </a:r>
            <a:r>
              <a:rPr b="0" i="1" lang="ru-RU" sz="2400" spc="-1" strike="noStrike">
                <a:solidFill>
                  <a:srgbClr val="003472"/>
                </a:solidFill>
                <a:latin typeface="Arial"/>
              </a:rPr>
              <a:t>обратной для квадратной матрицы ,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мечание.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братная матрица       такого же порядка, что и матрица           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братная матрица для матрицы        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6"/>
          <p:cNvGraphicFramePr/>
          <p:nvPr/>
        </p:nvGraphicFramePr>
        <p:xfrm>
          <a:off x="4429080" y="3000240"/>
          <a:ext cx="399960" cy="43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9080" y="3000240"/>
                    <a:ext cx="3999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7"/>
          <p:cNvGraphicFramePr/>
          <p:nvPr/>
        </p:nvGraphicFramePr>
        <p:xfrm>
          <a:off x="5824440" y="3500280"/>
          <a:ext cx="2300400" cy="47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24440" y="3500280"/>
                    <a:ext cx="23004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8"/>
          <p:cNvGraphicFramePr/>
          <p:nvPr/>
        </p:nvGraphicFramePr>
        <p:xfrm>
          <a:off x="5214960" y="4071960"/>
          <a:ext cx="399960" cy="43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4960" y="4071960"/>
                    <a:ext cx="3999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9"/>
          <p:cNvGraphicFramePr/>
          <p:nvPr/>
        </p:nvGraphicFramePr>
        <p:xfrm>
          <a:off x="2857680" y="4643280"/>
          <a:ext cx="401400" cy="438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7680" y="4643280"/>
                    <a:ext cx="40140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0"/>
          <p:cNvGraphicFramePr/>
          <p:nvPr/>
        </p:nvGraphicFramePr>
        <p:xfrm>
          <a:off x="5286240" y="5143680"/>
          <a:ext cx="401760" cy="438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9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6240" y="5143680"/>
                    <a:ext cx="4017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11"/>
          <p:cNvGraphicFramePr/>
          <p:nvPr/>
        </p:nvGraphicFramePr>
        <p:xfrm>
          <a:off x="7880400" y="5056200"/>
          <a:ext cx="736560" cy="538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80400" y="5056200"/>
                    <a:ext cx="7365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12"/>
          <p:cNvGraphicFramePr/>
          <p:nvPr/>
        </p:nvGraphicFramePr>
        <p:xfrm>
          <a:off x="3143160" y="5643720"/>
          <a:ext cx="2844720" cy="537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3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43160" y="5643720"/>
                    <a:ext cx="28447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14200" y="1599840"/>
            <a:ext cx="8501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Матрица  называется </a:t>
            </a:r>
            <a:r>
              <a:rPr b="1" i="1" lang="ru-RU" sz="2400" spc="-1" strike="noStrike">
                <a:solidFill>
                  <a:srgbClr val="00152e"/>
                </a:solidFill>
                <a:latin typeface="Arial"/>
              </a:rPr>
              <a:t>невырожденной,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если определитель этой матрицы отличен от нул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 противном случае матрица называется </a:t>
            </a:r>
            <a:r>
              <a:rPr b="1" i="1" lang="ru-RU" sz="2400" spc="-1" strike="noStrike">
                <a:solidFill>
                  <a:srgbClr val="00152e"/>
                </a:solidFill>
                <a:latin typeface="Arial"/>
              </a:rPr>
              <a:t>вырожденно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52e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.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Если матрица         имеет обратную, то эта матрица является невырожденной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тная матр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Object 11"/>
          <p:cNvGraphicFramePr/>
          <p:nvPr/>
        </p:nvGraphicFramePr>
        <p:xfrm>
          <a:off x="571680" y="2786040"/>
          <a:ext cx="120780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786040"/>
                    <a:ext cx="12078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4"/>
          <p:cNvGraphicFramePr/>
          <p:nvPr/>
        </p:nvGraphicFramePr>
        <p:xfrm>
          <a:off x="4286160" y="4071960"/>
          <a:ext cx="40176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6160" y="4071960"/>
                    <a:ext cx="4017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5"/>
          <p:cNvGraphicFramePr/>
          <p:nvPr/>
        </p:nvGraphicFramePr>
        <p:xfrm>
          <a:off x="5786280" y="4429080"/>
          <a:ext cx="1208160" cy="72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6280" y="4429080"/>
                    <a:ext cx="120816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7"/>
          <p:cNvGraphicFramePr/>
          <p:nvPr/>
        </p:nvGraphicFramePr>
        <p:xfrm>
          <a:off x="3110040" y="4979880"/>
          <a:ext cx="1846080" cy="133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10040" y="4979880"/>
                    <a:ext cx="184608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сякая невырожденная матрица имеет обратную, при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где           алгебраическое дополнения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матриц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тная матр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3929040" y="2286000"/>
          <a:ext cx="373536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9040" y="2286000"/>
                    <a:ext cx="373536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3"/>
          <p:cNvGraphicFramePr/>
          <p:nvPr/>
        </p:nvGraphicFramePr>
        <p:xfrm>
          <a:off x="1500120" y="4059360"/>
          <a:ext cx="716040" cy="58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0120" y="4059360"/>
                    <a:ext cx="71604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8001000" y="3957480"/>
                <a:ext cx="503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1" name="Object 5"/>
          <p:cNvGraphicFramePr/>
          <p:nvPr/>
        </p:nvGraphicFramePr>
        <p:xfrm>
          <a:off x="2241720" y="4784760"/>
          <a:ext cx="40140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1720" y="4784760"/>
                    <a:ext cx="401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Обратную матрицу можно вычислить по следующей форм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где           алгебраическое дополнения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 определителе         , транспонированной к матриц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тная матр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4500720" y="2143080"/>
          <a:ext cx="160020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43080"/>
                    <a:ext cx="160020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3"/>
          <p:cNvGraphicFramePr/>
          <p:nvPr/>
        </p:nvGraphicFramePr>
        <p:xfrm>
          <a:off x="1255680" y="3414600"/>
          <a:ext cx="74448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5680" y="3414600"/>
                    <a:ext cx="7444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7715160" y="3357720"/>
                <a:ext cx="503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0" name="Object 5"/>
          <p:cNvGraphicFramePr/>
          <p:nvPr/>
        </p:nvGraphicFramePr>
        <p:xfrm>
          <a:off x="714240" y="4714920"/>
          <a:ext cx="40176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240" y="4714920"/>
                    <a:ext cx="4017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3214800" y="4071960"/>
          <a:ext cx="48708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14800" y="4071960"/>
                    <a:ext cx="4870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определ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9232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онятие определителя  (или детерминанта ) квадратной матрицы  порядка  , которое обозначается через           или      , введем индуктивным метод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р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ерейдем к индуктивному шагу: предположим, что нами уже введено понятие определителя 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, соответствующего произвольной квадратной матрице              го порядка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Объект 8"/>
              <p:cNvSpPr txBox="1"/>
              <p:nvPr/>
            </p:nvSpPr>
            <p:spPr>
              <a:xfrm>
                <a:off x="6300720" y="1916280"/>
                <a:ext cx="262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Объект 9"/>
              <p:cNvSpPr txBox="1"/>
              <p:nvPr/>
            </p:nvSpPr>
            <p:spPr>
              <a:xfrm>
                <a:off x="4211640" y="1916280"/>
                <a:ext cx="3142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Объект 10"/>
              <p:cNvSpPr txBox="1"/>
              <p:nvPr/>
            </p:nvSpPr>
            <p:spPr>
              <a:xfrm>
                <a:off x="3983040" y="2276640"/>
                <a:ext cx="7333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Объект 11"/>
              <p:cNvSpPr txBox="1"/>
              <p:nvPr/>
            </p:nvSpPr>
            <p:spPr>
              <a:xfrm>
                <a:off x="6194520" y="2205000"/>
                <a:ext cx="3934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Объект 12"/>
              <p:cNvSpPr txBox="1"/>
              <p:nvPr/>
            </p:nvSpPr>
            <p:spPr>
              <a:xfrm>
                <a:off x="2411280" y="2997360"/>
                <a:ext cx="20163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6" name="Объект 15"/>
          <p:cNvGraphicFramePr/>
          <p:nvPr/>
        </p:nvGraphicFramePr>
        <p:xfrm>
          <a:off x="3708360" y="3357720"/>
          <a:ext cx="355428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357720"/>
                    <a:ext cx="355428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8" name="Объект 16"/>
              <p:cNvSpPr txBox="1"/>
              <p:nvPr/>
            </p:nvSpPr>
            <p:spPr>
              <a:xfrm>
                <a:off x="2411280" y="3860640"/>
                <a:ext cx="73368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17"/>
              <p:cNvSpPr txBox="1"/>
              <p:nvPr/>
            </p:nvSpPr>
            <p:spPr>
              <a:xfrm>
                <a:off x="755640" y="5157720"/>
                <a:ext cx="628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Объект 18"/>
              <p:cNvSpPr txBox="1"/>
              <p:nvPr/>
            </p:nvSpPr>
            <p:spPr>
              <a:xfrm>
                <a:off x="1979640" y="5516640"/>
                <a:ext cx="10476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876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айти матрицу, обратную да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айдем определитель матри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5"/>
          <p:cNvGraphicFramePr/>
          <p:nvPr/>
        </p:nvGraphicFramePr>
        <p:xfrm>
          <a:off x="3000240" y="2071800"/>
          <a:ext cx="252576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2071800"/>
                    <a:ext cx="252576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3"/>
          <p:cNvGraphicFramePr/>
          <p:nvPr/>
        </p:nvGraphicFramePr>
        <p:xfrm>
          <a:off x="714240" y="4357800"/>
          <a:ext cx="7747200" cy="17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4357800"/>
                    <a:ext cx="774720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8760" y="1428480"/>
            <a:ext cx="82864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5"/>
          <p:cNvGraphicFramePr/>
          <p:nvPr/>
        </p:nvGraphicFramePr>
        <p:xfrm>
          <a:off x="428760" y="1428840"/>
          <a:ext cx="286992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428840"/>
                    <a:ext cx="286992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Box 5"/>
          <p:cNvSpPr/>
          <p:nvPr/>
        </p:nvSpPr>
        <p:spPr>
          <a:xfrm>
            <a:off x="3305880" y="1571760"/>
            <a:ext cx="54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айдем алгебраические до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матрицы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6"/>
          <p:cNvGraphicFramePr/>
          <p:nvPr/>
        </p:nvGraphicFramePr>
        <p:xfrm>
          <a:off x="4786200" y="2143080"/>
          <a:ext cx="48744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2143080"/>
                    <a:ext cx="4874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7"/>
          <p:cNvGraphicFramePr/>
          <p:nvPr/>
        </p:nvGraphicFramePr>
        <p:xfrm>
          <a:off x="785880" y="3201840"/>
          <a:ext cx="7405560" cy="301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880" y="3201840"/>
                    <a:ext cx="740556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Составляем обратную матр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Object 2"/>
          <p:cNvGraphicFramePr/>
          <p:nvPr/>
        </p:nvGraphicFramePr>
        <p:xfrm>
          <a:off x="785880" y="2286000"/>
          <a:ext cx="521028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2286000"/>
                    <a:ext cx="521028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3"/>
          <p:cNvGraphicFramePr/>
          <p:nvPr/>
        </p:nvGraphicFramePr>
        <p:xfrm>
          <a:off x="785880" y="3929040"/>
          <a:ext cx="6416640" cy="15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5880" y="3929040"/>
                    <a:ext cx="641664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роведем проверку, умнож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5572080" y="1643040"/>
          <a:ext cx="178128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643040"/>
                    <a:ext cx="1781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5"/>
          <p:cNvGraphicFramePr/>
          <p:nvPr/>
        </p:nvGraphicFramePr>
        <p:xfrm>
          <a:off x="1071720" y="2214720"/>
          <a:ext cx="2525400" cy="17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2214720"/>
                    <a:ext cx="252540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6"/>
          <p:cNvGraphicFramePr/>
          <p:nvPr/>
        </p:nvGraphicFramePr>
        <p:xfrm>
          <a:off x="4286160" y="2357280"/>
          <a:ext cx="3400560" cy="153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6160" y="2357280"/>
                    <a:ext cx="34005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7"/>
          <p:cNvGraphicFramePr/>
          <p:nvPr/>
        </p:nvGraphicFramePr>
        <p:xfrm>
          <a:off x="2714760" y="4143240"/>
          <a:ext cx="3290760" cy="153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4760" y="4143240"/>
                    <a:ext cx="32907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шение матрич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 и            матрицы поряд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о решение матричны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     квадратная матрица порядка    , находится по соответствующей из форму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Объект 1"/>
              <p:cNvSpPr txBox="1"/>
              <p:nvPr/>
            </p:nvSpPr>
            <p:spPr>
              <a:xfrm>
                <a:off x="3419640" y="1557360"/>
                <a:ext cx="865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Объект 2"/>
              <p:cNvSpPr txBox="1"/>
              <p:nvPr/>
            </p:nvSpPr>
            <p:spPr>
              <a:xfrm>
                <a:off x="4643280" y="1628640"/>
                <a:ext cx="865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Объект 3"/>
              <p:cNvSpPr txBox="1"/>
              <p:nvPr/>
            </p:nvSpPr>
            <p:spPr>
              <a:xfrm>
                <a:off x="8172360" y="1700280"/>
                <a:ext cx="2635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Объект 4"/>
              <p:cNvSpPr txBox="1"/>
              <p:nvPr/>
            </p:nvSpPr>
            <p:spPr>
              <a:xfrm>
                <a:off x="2700360" y="2717640"/>
                <a:ext cx="32511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Объект 5"/>
              <p:cNvSpPr txBox="1"/>
              <p:nvPr/>
            </p:nvSpPr>
            <p:spPr>
              <a:xfrm>
                <a:off x="1258920" y="3429000"/>
                <a:ext cx="601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Объект 6"/>
              <p:cNvSpPr txBox="1"/>
              <p:nvPr/>
            </p:nvSpPr>
            <p:spPr>
              <a:xfrm>
                <a:off x="6156360" y="3500280"/>
                <a:ext cx="2635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Объект 7"/>
              <p:cNvSpPr txBox="1"/>
              <p:nvPr/>
            </p:nvSpPr>
            <p:spPr>
              <a:xfrm>
                <a:off x="2700360" y="4437000"/>
                <a:ext cx="36702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шение матрич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и              ,где                   матрицы размерностью                                соответственно ,то решение матричного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     матрица размерности             находится по формул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Объект 1"/>
              <p:cNvSpPr txBox="1"/>
              <p:nvPr/>
            </p:nvSpPr>
            <p:spPr>
              <a:xfrm>
                <a:off x="3419640" y="1747800"/>
                <a:ext cx="8650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Объект 2"/>
              <p:cNvSpPr txBox="1"/>
              <p:nvPr/>
            </p:nvSpPr>
            <p:spPr>
              <a:xfrm>
                <a:off x="6462720" y="1781280"/>
                <a:ext cx="12049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С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Объект 3"/>
              <p:cNvSpPr txBox="1"/>
              <p:nvPr/>
            </p:nvSpPr>
            <p:spPr>
              <a:xfrm>
                <a:off x="4572000" y="2349360"/>
                <a:ext cx="23194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Объект 4"/>
              <p:cNvSpPr txBox="1"/>
              <p:nvPr/>
            </p:nvSpPr>
            <p:spPr>
              <a:xfrm>
                <a:off x="2916360" y="3573360"/>
                <a:ext cx="1704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Объект 5"/>
              <p:cNvSpPr txBox="1"/>
              <p:nvPr/>
            </p:nvSpPr>
            <p:spPr>
              <a:xfrm>
                <a:off x="1258920" y="4221000"/>
                <a:ext cx="601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Объект 6"/>
              <p:cNvSpPr txBox="1"/>
              <p:nvPr/>
            </p:nvSpPr>
            <p:spPr>
              <a:xfrm>
                <a:off x="5268960" y="4308480"/>
                <a:ext cx="815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Объект 7"/>
              <p:cNvSpPr txBox="1"/>
              <p:nvPr/>
            </p:nvSpPr>
            <p:spPr>
              <a:xfrm>
                <a:off x="3473280" y="5091120"/>
                <a:ext cx="2124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Объект 10"/>
              <p:cNvSpPr txBox="1"/>
              <p:nvPr/>
            </p:nvSpPr>
            <p:spPr>
              <a:xfrm>
                <a:off x="4716360" y="1747800"/>
                <a:ext cx="8924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С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778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Решить матрично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йдем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Объект 5"/>
              <p:cNvSpPr txBox="1"/>
              <p:nvPr/>
            </p:nvSpPr>
            <p:spPr>
              <a:xfrm>
                <a:off x="1403280" y="2025720"/>
                <a:ext cx="46180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Объект 8"/>
              <p:cNvSpPr txBox="1"/>
              <p:nvPr/>
            </p:nvSpPr>
            <p:spPr>
              <a:xfrm>
                <a:off x="3929040" y="2886120"/>
                <a:ext cx="4986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Объект 9"/>
              <p:cNvSpPr txBox="1"/>
              <p:nvPr/>
            </p:nvSpPr>
            <p:spPr>
              <a:xfrm>
                <a:off x="934920" y="3357720"/>
                <a:ext cx="61722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Объект 10"/>
              <p:cNvSpPr txBox="1"/>
              <p:nvPr/>
            </p:nvSpPr>
            <p:spPr>
              <a:xfrm>
                <a:off x="1119240" y="4508640"/>
                <a:ext cx="161928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Объект 11"/>
              <p:cNvSpPr txBox="1"/>
              <p:nvPr/>
            </p:nvSpPr>
            <p:spPr>
              <a:xfrm>
                <a:off x="3073320" y="4365720"/>
                <a:ext cx="4108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,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,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Объект 12"/>
              <p:cNvSpPr txBox="1"/>
              <p:nvPr/>
            </p:nvSpPr>
            <p:spPr>
              <a:xfrm>
                <a:off x="1908000" y="5373720"/>
                <a:ext cx="42087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,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,5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400"/>
            </a:br>
            <a:r>
              <a:rPr b="1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1. СИСТЕМЫ  ДВУХ  ЛИНЕЙНЫХ  УРАВН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28760" y="1599840"/>
            <a:ext cx="82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 р е д е л е н и е  1.  </a:t>
            </a:r>
            <a:r>
              <a:rPr b="0" i="1" lang="ru-RU" sz="2800" spc="-1" strike="noStrike">
                <a:solidFill>
                  <a:srgbClr val="003399"/>
                </a:solidFill>
                <a:latin typeface="Arial"/>
              </a:rPr>
              <a:t>Системой линейных алгебраических уравн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стоящей из двух уравнений с двумя неизвестны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зывается система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2598840" y="3849840"/>
          <a:ext cx="411300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8840" y="3849840"/>
                    <a:ext cx="41130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28760" y="1356840"/>
            <a:ext cx="80308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                               некоторые постоянные действитель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7"/>
          <p:cNvGraphicFramePr/>
          <p:nvPr/>
        </p:nvGraphicFramePr>
        <p:xfrm>
          <a:off x="1692360" y="1484280"/>
          <a:ext cx="230328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84280"/>
                    <a:ext cx="23032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9"/>
          <p:cNvSpPr/>
          <p:nvPr/>
        </p:nvSpPr>
        <p:spPr>
          <a:xfrm>
            <a:off x="3348000" y="2143080"/>
            <a:ext cx="53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395280" y="1962720"/>
            <a:ext cx="8177400" cy="71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 п р е д е л е н и е  2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ица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трицей сист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(1); вектор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олбцом свобод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лен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ист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),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                        столбцом неизвест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11"/>
          <p:cNvGraphicFramePr/>
          <p:nvPr/>
        </p:nvGraphicFramePr>
        <p:xfrm>
          <a:off x="6143760" y="2143080"/>
          <a:ext cx="1944720" cy="10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3760" y="2143080"/>
                    <a:ext cx="1944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17"/>
          <p:cNvGraphicFramePr/>
          <p:nvPr/>
        </p:nvGraphicFramePr>
        <p:xfrm>
          <a:off x="642960" y="3571920"/>
          <a:ext cx="1368360" cy="11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960" y="3571920"/>
                    <a:ext cx="136836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4"/>
          <p:cNvGraphicFramePr/>
          <p:nvPr/>
        </p:nvGraphicFramePr>
        <p:xfrm>
          <a:off x="1979640" y="4581360"/>
          <a:ext cx="1655640" cy="116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4581360"/>
                    <a:ext cx="165564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14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400"/>
            </a:br>
            <a:r>
              <a:rPr b="1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1. СИСТЕМЫ  ДВУХ  ЛИНЕЙНЫХ  УРАВН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468360" y="15782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 1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о Крам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 Если определитель матрицы системы (1) не равен нулю, то система (1) имеет единственное решение, вычисляемое по формул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8"/>
          <p:cNvGraphicFramePr/>
          <p:nvPr/>
        </p:nvGraphicFramePr>
        <p:xfrm>
          <a:off x="2357280" y="3000240"/>
          <a:ext cx="13669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000240"/>
                    <a:ext cx="13669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1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"/>
          <p:cNvGraphicFramePr/>
          <p:nvPr/>
        </p:nvGraphicFramePr>
        <p:xfrm>
          <a:off x="4643280" y="3000240"/>
          <a:ext cx="1511280" cy="12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000240"/>
                    <a:ext cx="151128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14"/>
          <p:cNvGraphicFramePr/>
          <p:nvPr/>
        </p:nvGraphicFramePr>
        <p:xfrm>
          <a:off x="1116000" y="4500720"/>
          <a:ext cx="108108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3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4500720"/>
                    <a:ext cx="10810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13"/>
          <p:cNvGraphicFramePr/>
          <p:nvPr/>
        </p:nvGraphicFramePr>
        <p:xfrm>
          <a:off x="2627280" y="4543560"/>
          <a:ext cx="194472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4543560"/>
                    <a:ext cx="19447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12"/>
          <p:cNvGraphicFramePr/>
          <p:nvPr/>
        </p:nvGraphicFramePr>
        <p:xfrm>
          <a:off x="5500800" y="5072040"/>
          <a:ext cx="395280" cy="44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7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0800" y="5072040"/>
                    <a:ext cx="395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15"/>
          <p:cNvSpPr/>
          <p:nvPr/>
        </p:nvSpPr>
        <p:spPr>
          <a:xfrm>
            <a:off x="493920" y="457308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           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2925720" y="30981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428760" y="510120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ели, полученные  из              заменой 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го столбца столбцом свободных член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8528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400"/>
            </a:br>
            <a:r>
              <a:rPr b="1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1. СИСТЕМЫ  ДВУХ  ЛИНЕЙНЫХ  УРАВН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Минором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екоторого элемента        матрицы     порядка      называется опреде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рядка, соответствующий матрице, которая получается из исходной матрицы       в результате вычеркивания той строки и того столбца, на пересечении которых стоит элемент       , т.е.         строки и       го столб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инор элемента       обозначается        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минора эле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Объект 7"/>
              <p:cNvSpPr txBox="1"/>
              <p:nvPr/>
            </p:nvSpPr>
            <p:spPr>
              <a:xfrm>
                <a:off x="7596360" y="1557360"/>
                <a:ext cx="366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Объект 1"/>
              <p:cNvSpPr txBox="1"/>
              <p:nvPr/>
            </p:nvSpPr>
            <p:spPr>
              <a:xfrm>
                <a:off x="1954080" y="2006640"/>
                <a:ext cx="3142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Объект 4"/>
              <p:cNvSpPr txBox="1"/>
              <p:nvPr/>
            </p:nvSpPr>
            <p:spPr>
              <a:xfrm>
                <a:off x="3635280" y="2060640"/>
                <a:ext cx="262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Объект 5"/>
              <p:cNvSpPr txBox="1"/>
              <p:nvPr/>
            </p:nvSpPr>
            <p:spPr>
              <a:xfrm>
                <a:off x="571680" y="2421000"/>
                <a:ext cx="10476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Объект 6"/>
              <p:cNvSpPr txBox="1"/>
              <p:nvPr/>
            </p:nvSpPr>
            <p:spPr>
              <a:xfrm>
                <a:off x="5651640" y="2852640"/>
                <a:ext cx="3142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6012000" y="3500280"/>
                <a:ext cx="3664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Объект 8"/>
              <p:cNvSpPr txBox="1"/>
              <p:nvPr/>
            </p:nvSpPr>
            <p:spPr>
              <a:xfrm>
                <a:off x="7248600" y="3573360"/>
                <a:ext cx="419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Объект 9"/>
              <p:cNvSpPr txBox="1"/>
              <p:nvPr/>
            </p:nvSpPr>
            <p:spPr>
              <a:xfrm>
                <a:off x="1979640" y="3933720"/>
                <a:ext cx="4986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Объект 10"/>
              <p:cNvSpPr txBox="1"/>
              <p:nvPr/>
            </p:nvSpPr>
            <p:spPr>
              <a:xfrm>
                <a:off x="3203640" y="4297320"/>
                <a:ext cx="366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Объект 11"/>
              <p:cNvSpPr txBox="1"/>
              <p:nvPr/>
            </p:nvSpPr>
            <p:spPr>
              <a:xfrm>
                <a:off x="5724360" y="4297320"/>
                <a:ext cx="5241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 u="sng">
                <a:solidFill>
                  <a:srgbClr val="ffff99"/>
                </a:solidFill>
                <a:uFillTx/>
                <a:latin typeface="Arial"/>
              </a:rPr>
              <a:t>1. СИСТЕМЫ  ДВУХ  ЛИНЕЙНЫХ  УРАВ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177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 2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системы (1)          ,  но хотя бы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пределителей         или       отличен от нуля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(1) не имеет решения.  Если у системы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система (1) имеет бесконе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4"/>
          <p:cNvGraphicFramePr/>
          <p:nvPr/>
        </p:nvGraphicFramePr>
        <p:xfrm>
          <a:off x="5000760" y="1706400"/>
          <a:ext cx="89532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1706400"/>
                    <a:ext cx="8953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6"/>
          <p:cNvGraphicFramePr/>
          <p:nvPr/>
        </p:nvGraphicFramePr>
        <p:xfrm>
          <a:off x="3214800" y="2286000"/>
          <a:ext cx="44748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2286000"/>
                    <a:ext cx="4474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8"/>
          <p:cNvGraphicFramePr/>
          <p:nvPr/>
        </p:nvGraphicFramePr>
        <p:xfrm>
          <a:off x="4500720" y="2286000"/>
          <a:ext cx="5252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2286000"/>
                    <a:ext cx="525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Object 10"/>
          <p:cNvGraphicFramePr/>
          <p:nvPr/>
        </p:nvGraphicFramePr>
        <p:xfrm>
          <a:off x="642960" y="3500280"/>
          <a:ext cx="244800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3500280"/>
                    <a:ext cx="24480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1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. СИСТЕМЫ  ТРЕХ  ЛИНЕЙНЫХ  УРАВНЕНИ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8286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 3. </a:t>
            </a:r>
            <a:r>
              <a:rPr b="0" i="1" lang="ru-RU" sz="2400" spc="-1" strike="noStrike">
                <a:solidFill>
                  <a:srgbClr val="003472"/>
                </a:solidFill>
                <a:latin typeface="Arial"/>
              </a:rPr>
              <a:t>Системой линейных алгебра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472"/>
                </a:solidFill>
                <a:latin typeface="Arial"/>
              </a:rPr>
              <a:t>уравнений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, состоящей из трех уравнений с т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еизвестными  </a:t>
            </a:r>
            <a:r>
              <a:rPr b="1" i="1" lang="en-US" sz="2400" spc="-1" strike="noStrike">
                <a:solidFill>
                  <a:srgbClr val="003472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3472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и  </a:t>
            </a:r>
            <a:r>
              <a:rPr b="1" i="1" lang="en-US" sz="2400" spc="-1" strike="noStrike">
                <a:solidFill>
                  <a:srgbClr val="003472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, называется система ви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4"/>
          <p:cNvGraphicFramePr/>
          <p:nvPr/>
        </p:nvGraphicFramePr>
        <p:xfrm>
          <a:off x="3000240" y="3200400"/>
          <a:ext cx="338472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3200400"/>
                    <a:ext cx="338472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8"/>
          <p:cNvSpPr/>
          <p:nvPr/>
        </p:nvSpPr>
        <p:spPr>
          <a:xfrm>
            <a:off x="857160" y="496188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где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642960" y="5563800"/>
            <a:ext cx="78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– 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екоторые постоянные действительны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11"/>
          <p:cNvGraphicFramePr/>
          <p:nvPr/>
        </p:nvGraphicFramePr>
        <p:xfrm>
          <a:off x="1928880" y="4994280"/>
          <a:ext cx="244944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4994280"/>
                    <a:ext cx="24494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4"/>
          <p:cNvSpPr/>
          <p:nvPr/>
        </p:nvSpPr>
        <p:spPr>
          <a:xfrm>
            <a:off x="7500960" y="349200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. СИСТЕМЫ  ТРЕХ  ЛИНЕЙНЫХ  УРАВНЕНИ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3"/>
          <p:cNvSpPr/>
          <p:nvPr/>
        </p:nvSpPr>
        <p:spPr>
          <a:xfrm>
            <a:off x="428760" y="1512720"/>
            <a:ext cx="82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  4.   </a:t>
            </a:r>
            <a:r>
              <a:rPr b="0" i="1" lang="ru-RU" sz="2400" spc="-1" strike="noStrike">
                <a:solidFill>
                  <a:srgbClr val="003472"/>
                </a:solidFill>
                <a:latin typeface="Arial"/>
              </a:rPr>
              <a:t>Матрицей системы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(2), столбцом свободных членов системы (2) и столбцом неизвестных системы (2)  называются, соответственно, матрица </a:t>
            </a: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92d050"/>
                </a:solidFill>
                <a:latin typeface="Arial"/>
              </a:rPr>
              <a:t>A,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 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539640" y="4111560"/>
          <a:ext cx="3303720" cy="18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111560"/>
                    <a:ext cx="330372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13"/>
          <p:cNvGraphicFramePr/>
          <p:nvPr/>
        </p:nvGraphicFramePr>
        <p:xfrm>
          <a:off x="1643040" y="3214800"/>
          <a:ext cx="349200" cy="54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3040" y="3214800"/>
                    <a:ext cx="3492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14"/>
          <p:cNvGraphicFramePr/>
          <p:nvPr/>
        </p:nvGraphicFramePr>
        <p:xfrm>
          <a:off x="3786120" y="3286080"/>
          <a:ext cx="31752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6120" y="3286080"/>
                    <a:ext cx="317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7"/>
          <p:cNvGraphicFramePr/>
          <p:nvPr/>
        </p:nvGraphicFramePr>
        <p:xfrm>
          <a:off x="4075200" y="4257720"/>
          <a:ext cx="121608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5200" y="4257720"/>
                    <a:ext cx="121608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6"/>
          <p:cNvGraphicFramePr/>
          <p:nvPr/>
        </p:nvGraphicFramePr>
        <p:xfrm>
          <a:off x="6000840" y="4143240"/>
          <a:ext cx="1214280" cy="165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00840" y="4143240"/>
                    <a:ext cx="121428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. СИСТЕМЫ  ТРЕХ  ЛИНЕЙНЫХ  УРАВ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56760" y="1285560"/>
            <a:ext cx="8177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(правило Крамера).  Если</a:t>
            </a: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матрицы системы (2) не равен нулю, то систем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имеет единственное решение, вычисляем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формула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где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и, полученные из         заменой  его  </a:t>
            </a: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j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-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столбца столбцом свободных член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273240" y="4622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15"/>
          <p:cNvGraphicFramePr/>
          <p:nvPr/>
        </p:nvGraphicFramePr>
        <p:xfrm>
          <a:off x="2286000" y="2857680"/>
          <a:ext cx="160020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57680"/>
                    <a:ext cx="16002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14"/>
          <p:cNvGraphicFramePr/>
          <p:nvPr/>
        </p:nvGraphicFramePr>
        <p:xfrm>
          <a:off x="4143240" y="2928960"/>
          <a:ext cx="1490760" cy="114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240" y="2928960"/>
                    <a:ext cx="149076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13"/>
          <p:cNvGraphicFramePr/>
          <p:nvPr/>
        </p:nvGraphicFramePr>
        <p:xfrm>
          <a:off x="5857920" y="2928960"/>
          <a:ext cx="160020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57920" y="2928960"/>
                    <a:ext cx="16002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16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7"/>
          <p:cNvSpPr/>
          <p:nvPr/>
        </p:nvSpPr>
        <p:spPr>
          <a:xfrm>
            <a:off x="4592520" y="28569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4592520" y="3510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9"/>
          <p:cNvSpPr/>
          <p:nvPr/>
        </p:nvSpPr>
        <p:spPr>
          <a:xfrm>
            <a:off x="4609800" y="41648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6"/>
          <p:cNvGraphicFramePr/>
          <p:nvPr/>
        </p:nvGraphicFramePr>
        <p:xfrm>
          <a:off x="1285920" y="3857760"/>
          <a:ext cx="1361880" cy="73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85920" y="3857760"/>
                    <a:ext cx="136188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5"/>
          <p:cNvGraphicFramePr/>
          <p:nvPr/>
        </p:nvGraphicFramePr>
        <p:xfrm>
          <a:off x="3500280" y="3929040"/>
          <a:ext cx="223236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0280" y="3929040"/>
                    <a:ext cx="2232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4"/>
          <p:cNvGraphicFramePr/>
          <p:nvPr/>
        </p:nvGraphicFramePr>
        <p:xfrm>
          <a:off x="4929120" y="4429080"/>
          <a:ext cx="44604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29120" y="4429080"/>
                    <a:ext cx="446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. СИСТЕМЫ  ТРЕХ  ЛИНЕЙНЫХ  УРАВ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640" y="1571400"/>
            <a:ext cx="81043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 4.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у системы (2)                  , но хо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ы один из определителей       ,       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личен от нуля, то система (2) не имеет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выполнены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о система (2) или имеет бесконечное множ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4"/>
          <p:cNvGraphicFramePr/>
          <p:nvPr/>
        </p:nvGraphicFramePr>
        <p:xfrm>
          <a:off x="10072800" y="1928880"/>
          <a:ext cx="4460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72800" y="1928880"/>
                    <a:ext cx="446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Rectangle 10"/>
          <p:cNvSpPr/>
          <p:nvPr/>
        </p:nvSpPr>
        <p:spPr>
          <a:xfrm>
            <a:off x="397080" y="2061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11"/>
          <p:cNvGraphicFramePr/>
          <p:nvPr/>
        </p:nvGraphicFramePr>
        <p:xfrm>
          <a:off x="5500800" y="1643040"/>
          <a:ext cx="1008000" cy="4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0800" y="1643040"/>
                    <a:ext cx="10080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Object 13"/>
          <p:cNvGraphicFramePr/>
          <p:nvPr/>
        </p:nvGraphicFramePr>
        <p:xfrm>
          <a:off x="4643280" y="2286000"/>
          <a:ext cx="43848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2286000"/>
                    <a:ext cx="438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5"/>
          <p:cNvGraphicFramePr/>
          <p:nvPr/>
        </p:nvGraphicFramePr>
        <p:xfrm>
          <a:off x="5286240" y="2286000"/>
          <a:ext cx="45900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2286000"/>
                    <a:ext cx="4590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Object 17"/>
          <p:cNvGraphicFramePr/>
          <p:nvPr/>
        </p:nvGraphicFramePr>
        <p:xfrm>
          <a:off x="6858000" y="2286000"/>
          <a:ext cx="4413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0" y="2286000"/>
                    <a:ext cx="441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19"/>
          <p:cNvGraphicFramePr/>
          <p:nvPr/>
        </p:nvGraphicFramePr>
        <p:xfrm>
          <a:off x="4714920" y="3500280"/>
          <a:ext cx="316872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2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4920" y="3500280"/>
                    <a:ext cx="31687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41300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мер  1.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систему: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ешение.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нном примере име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Object 4"/>
          <p:cNvGraphicFramePr/>
          <p:nvPr/>
        </p:nvGraphicFramePr>
        <p:xfrm>
          <a:off x="5003640" y="1341360"/>
          <a:ext cx="21607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341360"/>
                    <a:ext cx="21607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7"/>
          <p:cNvGraphicFramePr/>
          <p:nvPr/>
        </p:nvGraphicFramePr>
        <p:xfrm>
          <a:off x="5435640" y="2924280"/>
          <a:ext cx="1076400" cy="14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2924280"/>
                    <a:ext cx="107640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6"/>
          <p:cNvGraphicFramePr/>
          <p:nvPr/>
        </p:nvGraphicFramePr>
        <p:xfrm>
          <a:off x="611280" y="2924280"/>
          <a:ext cx="3960720" cy="14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924280"/>
                    <a:ext cx="396072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Rectangle 8"/>
          <p:cNvSpPr/>
          <p:nvPr/>
        </p:nvSpPr>
        <p:spPr>
          <a:xfrm>
            <a:off x="0" y="24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4522320" y="318384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4645080" y="41425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Object 11"/>
          <p:cNvGraphicFramePr/>
          <p:nvPr/>
        </p:nvGraphicFramePr>
        <p:xfrm>
          <a:off x="684360" y="4437000"/>
          <a:ext cx="4105080" cy="5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4437000"/>
                    <a:ext cx="41050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13"/>
          <p:cNvSpPr/>
          <p:nvPr/>
        </p:nvSpPr>
        <p:spPr>
          <a:xfrm>
            <a:off x="755640" y="51570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числи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6"/>
          <p:cNvGraphicFramePr/>
          <p:nvPr/>
        </p:nvGraphicFramePr>
        <p:xfrm>
          <a:off x="395280" y="1506600"/>
          <a:ext cx="2521080" cy="14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06600"/>
                    <a:ext cx="2521080" cy="14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5"/>
          <p:cNvGraphicFramePr/>
          <p:nvPr/>
        </p:nvGraphicFramePr>
        <p:xfrm>
          <a:off x="3132000" y="1500120"/>
          <a:ext cx="2735280" cy="15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500120"/>
                    <a:ext cx="273528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4"/>
          <p:cNvGraphicFramePr/>
          <p:nvPr/>
        </p:nvGraphicFramePr>
        <p:xfrm>
          <a:off x="6084720" y="1533600"/>
          <a:ext cx="2448000" cy="16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1533600"/>
                    <a:ext cx="244800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182520" y="7135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182520" y="16725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181080" y="263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541800" y="325404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сюда наход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12"/>
          <p:cNvGraphicFramePr/>
          <p:nvPr/>
        </p:nvGraphicFramePr>
        <p:xfrm>
          <a:off x="539640" y="4084560"/>
          <a:ext cx="7993080" cy="9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4084560"/>
                    <a:ext cx="79930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320" y="1428480"/>
            <a:ext cx="79628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Определителем          -го порядка, соответствующим матр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называется число, ра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и обозначаемое                 ,  либо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52e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ение определ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Объект 4"/>
              <p:cNvSpPr txBox="1"/>
              <p:nvPr/>
            </p:nvSpPr>
            <p:spPr>
              <a:xfrm>
                <a:off x="5786280" y="1428840"/>
                <a:ext cx="4302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6" name="Object 4"/>
          <p:cNvGraphicFramePr/>
          <p:nvPr/>
        </p:nvGraphicFramePr>
        <p:xfrm>
          <a:off x="3071880" y="2214720"/>
          <a:ext cx="296388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2214720"/>
                    <a:ext cx="296388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6"/>
          <p:cNvGraphicFramePr/>
          <p:nvPr/>
        </p:nvGraphicFramePr>
        <p:xfrm>
          <a:off x="928800" y="4357800"/>
          <a:ext cx="7002360" cy="95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4357800"/>
                    <a:ext cx="700236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Объект 10"/>
              <p:cNvSpPr txBox="1"/>
              <p:nvPr/>
            </p:nvSpPr>
            <p:spPr>
              <a:xfrm>
                <a:off x="3357720" y="5286240"/>
                <a:ext cx="9144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Объект 11"/>
              <p:cNvSpPr txBox="1"/>
              <p:nvPr/>
            </p:nvSpPr>
            <p:spPr>
              <a:xfrm>
                <a:off x="5535720" y="5286240"/>
                <a:ext cx="3934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81057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928800" y="1643040"/>
          <a:ext cx="7165800" cy="20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643040"/>
                    <a:ext cx="716580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Box 8"/>
          <p:cNvSpPr/>
          <p:nvPr/>
        </p:nvSpPr>
        <p:spPr>
          <a:xfrm>
            <a:off x="500040" y="40719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Эта формула называется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разложением опреде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го порядка по первой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Объект 4"/>
          <p:cNvGraphicFramePr/>
          <p:nvPr/>
        </p:nvGraphicFramePr>
        <p:xfrm>
          <a:off x="539640" y="4454640"/>
          <a:ext cx="817560" cy="47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454640"/>
                    <a:ext cx="8175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954000" y="1469880"/>
          <a:ext cx="774072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1469880"/>
                    <a:ext cx="77407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7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6"/>
          <p:cNvGraphicFramePr/>
          <p:nvPr/>
        </p:nvGraphicFramePr>
        <p:xfrm>
          <a:off x="1042920" y="3213000"/>
          <a:ext cx="6985080" cy="13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213000"/>
                    <a:ext cx="69850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9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8"/>
          <p:cNvGraphicFramePr/>
          <p:nvPr/>
        </p:nvGraphicFramePr>
        <p:xfrm>
          <a:off x="971640" y="4653000"/>
          <a:ext cx="3816360" cy="14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653000"/>
                    <a:ext cx="381636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10"/>
          <p:cNvSpPr/>
          <p:nvPr/>
        </p:nvSpPr>
        <p:spPr>
          <a:xfrm>
            <a:off x="7596360" y="51426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(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99840"/>
            <a:ext cx="8105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1.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Каков бы ни был номер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52e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152e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для определителя матрицы справедлива форм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Объект 4"/>
          <p:cNvGraphicFramePr/>
          <p:nvPr/>
        </p:nvGraphicFramePr>
        <p:xfrm>
          <a:off x="500040" y="2143080"/>
          <a:ext cx="218448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2184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571680" y="3193920"/>
          <a:ext cx="719424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3193920"/>
                    <a:ext cx="719424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Box 7"/>
          <p:cNvSpPr/>
          <p:nvPr/>
        </p:nvSpPr>
        <p:spPr>
          <a:xfrm>
            <a:off x="428760" y="48006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Эта формула называется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разложением опреде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го порядка по             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5"/>
          <p:cNvGraphicFramePr/>
          <p:nvPr/>
        </p:nvGraphicFramePr>
        <p:xfrm>
          <a:off x="428760" y="5214960"/>
          <a:ext cx="81756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760" y="5214960"/>
                    <a:ext cx="8175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6"/>
          <p:cNvGraphicFramePr/>
          <p:nvPr/>
        </p:nvGraphicFramePr>
        <p:xfrm>
          <a:off x="3357720" y="5214960"/>
          <a:ext cx="87444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5214960"/>
                    <a:ext cx="874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28760" y="1599840"/>
            <a:ext cx="8105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2.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Каков бы ни был номер столб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52e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152e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для определителя матрицы справедлива форм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Объект 4"/>
          <p:cNvGraphicFramePr/>
          <p:nvPr/>
        </p:nvGraphicFramePr>
        <p:xfrm>
          <a:off x="412920" y="2143080"/>
          <a:ext cx="23587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2143080"/>
                    <a:ext cx="23587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"/>
          <p:cNvGraphicFramePr/>
          <p:nvPr/>
        </p:nvGraphicFramePr>
        <p:xfrm>
          <a:off x="403200" y="3222720"/>
          <a:ext cx="7532640" cy="16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200" y="3222720"/>
                    <a:ext cx="753264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Box 7"/>
          <p:cNvSpPr/>
          <p:nvPr/>
        </p:nvSpPr>
        <p:spPr>
          <a:xfrm>
            <a:off x="428760" y="48006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Эта формула называется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разложением опреде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го порядка по              столб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428760" y="5214960"/>
          <a:ext cx="81756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760" y="5214960"/>
                    <a:ext cx="8175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3286080" y="5186520"/>
          <a:ext cx="101916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6080" y="5186520"/>
                    <a:ext cx="10191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Определитель может быть вычислен разложением по элементам его    л ю б о й    строки или столб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52e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152e"/>
                </a:solidFill>
                <a:latin typeface="Arial"/>
              </a:rPr>
              <a:t>Замечание.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Для определителя используют те же термины (элементы, строки, столбцы, главная и побочная диагонали), что и для соответствующей квадратной матрицы, чей определитель вычисл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40:02Z</dcterms:created>
  <dc:creator>к.502</dc:creator>
  <dc:description/>
  <dc:language>en-US</dc:language>
  <cp:lastModifiedBy>str-18-213-17</cp:lastModifiedBy>
  <dcterms:modified xsi:type="dcterms:W3CDTF">2014-10-10T06:13:55Z</dcterms:modified>
  <cp:revision>81</cp:revision>
  <dc:subject/>
  <dc:title>Определители второго и третьего порядка.</dc:title>
</cp:coreProperties>
</file>